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7FC-94A9-4848-8D5C-C7149F98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3B2-882A-4330-A3B0-6ACAACA1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A50-0E4D-46F3-A958-4287C46A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04E-579C-45E1-86AD-701579E7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A036-E537-412D-8407-BA573104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4A38-AF08-49D1-9E23-AE590F49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19C0-C86E-445F-A0A9-2943538D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68B2-A82F-4AD4-84C9-0C79C73A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C318-5AC4-4507-B04B-EA768D1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3233-5C99-4472-8761-719CEF2D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57A9-FD44-41D6-A83D-27BF504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CF9-BD69-4A8B-AFD9-DD495D68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ADE4-5CF6-4A6F-B0FD-2C825AF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8650-CF30-4913-9C2C-1FA2FC7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902-3E37-47BB-BADD-A4C1AE7C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1514-CA9C-4D00-BC7C-AC30730F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C9D8-E4D4-4F28-9FC7-8BBE858A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FF1-5158-4762-99A2-5960E5FC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856-C5DA-4393-8979-41F07A31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33E-F70E-443E-BB7E-A86B85E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FD6-0328-4A27-969A-E8CF92A1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1C9-5C24-4964-BF53-6754A61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0F8-4572-41BA-8BD0-D3B27C5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5B5-61EA-452A-958D-C745320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E6E-A45D-4286-872E-1E366C73B57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D0FF-6C19-4F61-BFFF-3F2CF8A694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683;%BE%AD&amp;in=15517&amp;cl=2&amp;lm=-1&amp;pn=15&amp;rn=1&amp;di=68744279775&amp;ln=2000&amp;fr=&amp;fmq=&amp;ic=&amp;s=&amp;se=&amp;sme=0&amp;tab=&amp;width=&amp;height=&amp;face=&amp;is=&amp;istype=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黑体"/>
              </a:rPr>
              <a:t>《关雎》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黑体"/>
              </a:rPr>
              <a:t>《蒹葭》</a:t>
            </a:r>
            <a:br>
              <a:rPr sz="8000"/>
            </a:b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课件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640" y="7174080"/>
            <a:ext cx="25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广东省中山市海洲初级中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作： 陈小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修改：陈远超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11-10-1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00280"/>
            <a:ext cx="1319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二三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参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荇菜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寤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不得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寤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思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悠哉悠哉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辗转反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119700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缠绵悱恻（内心痛苦无法排遣）之情，道出男子追求未果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慕之心与相思之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日思夜想，不能须臾忘怀。白天里食不知味，无心做事，而漫漫长夜又只能躺在床上翻来覆去的苦思冥想不能成眠，这种“为爱而不得其爱，又不忘其爱”的无限情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二三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参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荇菜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寤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之不得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寤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思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悠哉悠哉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辗转反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421000"/>
            <a:ext cx="5905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概括内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男子对女子执着追求和极度思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写采摘荇菜的情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借此来隐喻君子对淑女锲而不舍的追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君子的痴情是如何表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辗转反侧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无法入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39000" y="14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四五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采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琴瑟友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芼之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钟鼓乐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1197000"/>
            <a:ext cx="561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表现这个情窦初开少男对采荇菜的姑娘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深切思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至于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梦中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与心上人终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相会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亲近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爱慕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为她弹琴鼓瑟，敲钟打鼓，取悦她，心中充满了欢喜之情和把她取进家门的喜悦和热闹的场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四五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采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琴瑟友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参差荇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右芼之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窈窕淑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钟鼓乐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2205000"/>
            <a:ext cx="5905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概括段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男子想像与女子相会情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文中写了男子如何在女子面前表现？突出了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通过弹奏琴瑟和敲击钟鼓来亲近她，突出了男子追求爱情的炽烈专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全诗的线索是如何的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发现—思念（求不得）—相会（想像中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9000" y="14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155736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这是一首爱情恋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描写一位痴情小伙子对心上人朝思暮想的执着追求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雎鸠的阵阵鸣叫诱动了小伙子的痴情，使他独自陶醉在对姑娘的一往深情之中。种种复杂的情感油然而生，渴望与失望交错，幸福与煎熬并存。一位纯情少年热恋中的心态在这里表露得淋漓尽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82896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540640" cy="1052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背诵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915200"/>
            <a:ext cx="8209080" cy="2528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关雎鸠，在河之洲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君子好逑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参差荇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右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寤寐求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之不得，寤寐思服。悠哉悠哉，辗转反侧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参差荇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右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琴瑟友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参差荇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右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芼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窈窕淑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钟鼓乐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2007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年广东中考题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76500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．默写，或根据课文填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关雎鸠，□□□□。窈窕淑女，□□□□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诗经•关雎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(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万里赴戎机，□□□□□。朔气传金柝，□□□□□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《木兰诗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 (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以物喜，□□□□；□□□□ □□□□□，处江湖之远则忧其君。（范仲淹《岳阳楼记》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丛飞把爱无私奉献给了贫困地区需要帮助的孩子，至死不渝，真是“□□□□ □□□□， □□□□ □□□”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用李商隐诗句填空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(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把辛弃疾《西江月》默写完整。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□□□□□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□□□□□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□□□□□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□□□□□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七八个星天外，两三点雨山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旧时茅店社林边，路转溪头忽见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276720" y="3141720"/>
            <a:ext cx="273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latin typeface="黑体"/>
              </a:rPr>
              <a:t>蒹葭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ff66"/>
              </a:solidFill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3060720" y="1989000"/>
            <a:ext cx="3095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jiān ji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905120"/>
            <a:ext cx="85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蒹葭》选自十五《国风》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秦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属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秦国民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“秦风”多言车马田猎，粗犷质朴，而本诗却神韵缥缈，引人遐想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也是一首优美的怀人诗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的意思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皆生于水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07160" y="4365720"/>
            <a:ext cx="12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芦苇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13680" y="4762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解题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3117960" cy="536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正音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3000" y="1052280"/>
            <a:ext cx="7569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jiān ji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苍苍，白露为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一方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ù hu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之，道阻且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央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蒹葭萋萋，白露未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晞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ī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méi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jī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h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蒹葭采采，白露未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sì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zhǐ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948360" y="5211720"/>
            <a:ext cx="219564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9600" y="227664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280" y="332892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五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20400" y="3976560"/>
            <a:ext cx="32745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《诗》《书》《礼》《易》《春秋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《诗经》  《尚书》 《礼记》 《周易》  《春秋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0400" y="15289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四书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7160" y="2178000"/>
            <a:ext cx="26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《大学》《中庸》《论语》《孟子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3762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四书五经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64840" y="32173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《四书五经》是南宋以后儒学的基本书目，儒生学子的必读之书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64840" y="32173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《四书五经》是南宋以后儒学的基本书目，儒生学子的必读之书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27760" y="10969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四书五经》是南宋以后儒学的基本书目，儒生学子的必读之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2280" y="117000"/>
            <a:ext cx="4419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苍苍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白露为霜 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谓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伊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一方 。 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溯洄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道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且长 。 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溯游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之 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中央。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6000" y="620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苍苍：茂盛的样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伊人：那人，指所爱的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溯洄：逆流而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洄：上水，逆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：追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阻：艰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溯游：顺流而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宛：好像、仿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7800" y="44280"/>
            <a:ext cx="7930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解词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96720" y="333000"/>
            <a:ext cx="5029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萋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白露未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晞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谓伊人 ，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之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洄从之 ，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道阻且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游从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宛在水中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6920" y="692280"/>
            <a:ext cx="49687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萋萋：茂盛的样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晞：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湄：岸边，水草交接的地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跻：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坻：水中高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374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采采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未已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谓伊人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水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涘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洄从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道阻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右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溯游从之 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宛在水中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765000"/>
            <a:ext cx="518328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采采：茂盛，众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未已：还没有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：停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涘：水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右：弯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沚：水中的小块陆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47628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河畔芦苇碧色苍苍，深秋白露凝结成霜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那日思夜想的人，就在河水对岸一方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流而上去追寻她，道路险阻而又漫长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顺流而下寻寻觅觅，仿佛就在水的中央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河畔芦苇一片茂盛，清晨露水尚未晒干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那魂牵梦绕的人，就在河水对岸一边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流而上去追寻她，道路坎坷艰险难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顺流而下寻寻觅觅，仿佛就在沙洲中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河畔芦苇更为繁茂，清晨白露依然逗留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那苦苦追求的人，就在河水对岸一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流而上去追寻她，道路险阻迂回难走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顺流而下寻寻觅觅，仿佛就在水中沙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7800" y="44280"/>
            <a:ext cx="7930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翻译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620640"/>
            <a:ext cx="88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苍苍　白雾茫茫　有位佳人　在水一方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萋萋　白雾迷离　有位佳人　靠水而居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逆流而上　依偎在她身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奈前有险滩　道路又远又长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顺流而下　找寻她的方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却见依稀彷佛　她在水的中央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苍苍　白雾茫茫　有位佳人　在水一方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逆流而上　与她轻言细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奈前有险滩　道路曲折无已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愿顺流而下　找寻她的踪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却见彷佛依稀　她在水中伫立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绿草苍苍　白雾茫茫　有位佳人　在水一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4280"/>
            <a:ext cx="52578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歌词：邓丽君《在水一方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067280" y="549360"/>
            <a:ext cx="4537080" cy="1442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文着力写主人公的远望。一开始，他若有所思地站在水边，向对岸望去，看到他所爱慕的那个姑娘正向水边走来，心里很高兴；可不久，芦苇挡住了他的视线，看不到她了。他以为那姑娘正向上游走去，也就沿着河岸向上走；走了长长的一段艰难而又曲折的路，却依旧是什么也没有看见。他不灰心，又折回来去追寻好，最后终于看到她正站在河中的一个小洲上；这时他内心便充满了喜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诗以清秋为背景，抒发了诗人企慕和怅然若失的情感，揭示了人类永存的企慕情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8900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诗意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528920"/>
            <a:ext cx="403236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蒹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苍苍，白露为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一方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溯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之，道阻且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央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蒹葭萋萋，白露未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湄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蒹葭采采，白露未已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伊人，在水之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洄从之，道阻且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90792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在水一方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揭示了人类现实与理想的距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溯洄从之，道阻且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是寻求理想的艰难长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黑体"/>
                <a:ea typeface="黑体"/>
              </a:rPr>
              <a:t>伊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之境让我们感到希望与理想乃是一个若有若无、可望不可及的影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18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其它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437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闻一多</a:t>
            </a: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: “</a:t>
            </a: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我们很难确定它究竟是招隐还是怀春，只觉得它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百读不厌</a:t>
            </a:r>
            <a:r>
              <a:rPr b="1" lang="zh-CN" sz="4000" spc="-1" strike="noStrike">
                <a:solidFill>
                  <a:srgbClr val="ee1302"/>
                </a:solidFill>
                <a:latin typeface="黑体"/>
                <a:ea typeface="黑体"/>
              </a:rPr>
              <a:t>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1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诗的主人公是怎样一个形象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77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自己的理想目标而上下求索，不怕艰难险阻，矢志不渝的青年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苍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为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谓伊人，在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萋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未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谓伊人，在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蒹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采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白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未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谓伊人，在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洄从之，道阻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溯游从之，宛在水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0"/>
            <a:ext cx="8540640" cy="1052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背诵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33843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雨巷</a:t>
            </a:r>
            <a:r>
              <a:rPr b="1" lang="zh-CN" sz="1600" spc="-1" strike="noStrike">
                <a:solidFill>
                  <a:srgbClr val="0000ff"/>
                </a:solidFill>
                <a:latin typeface="黑体"/>
                <a:ea typeface="黑体"/>
              </a:rPr>
              <a:t>（戴望舒 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撑着油纸伞，独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彷徨在悠长、悠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寂寥的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希望逢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个丁香一样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结着愁怨的姑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是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一样的颜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一样的芬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一样的忧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雨中哀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哀怨又彷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彷徨在这寂寥的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撑着油纸伞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我一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我一样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默默彳亍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[chì chù]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寒漠、凄清，又惆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4920" y="476280"/>
            <a:ext cx="3384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默默地走近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走近，又投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太息一般的眼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飘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梦一般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梦一般地凄婉迷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像梦中飘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枝丁香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身旁飘过这女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她静默地远了、远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到了颓圮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[</a:t>
            </a:r>
            <a:r>
              <a:rPr b="1" lang="en-US" sz="2000" spc="-1" strike="noStrike">
                <a:solidFill>
                  <a:srgbClr val="008000"/>
                </a:solidFill>
                <a:latin typeface="黑体"/>
                <a:ea typeface="黑体"/>
              </a:rPr>
              <a:t>pǐ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篱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走尽这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雨的哀曲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了她的颜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散了她的芬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散了，甚至她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太息般的眼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丁香般的惆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476280"/>
            <a:ext cx="33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撑着油纸伞，独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彷徨在悠长、悠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寂寥的雨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希望飘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个丁香一样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结着愁怨的姑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476280"/>
            <a:ext cx="0" cy="6381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476280"/>
            <a:ext cx="0" cy="6381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《诗经》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981000"/>
            <a:ext cx="7632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诗经》是我国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第一部诗歌总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共收集了收入自西周初年至春秋中叶五百多年的诗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篇诗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诗三百），其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篇为笙诗，只有标题，没有内容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现存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305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既有标题又有文辞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到了战国时期，礼崩乐坏，大量乐谱失传，仅存的歌词则编入《诗经》。先秦称为《诗》，或取其整数称《诗三百》。西汉时被尊为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儒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典，始称《诗经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，并沿用至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用途和音乐分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风、雅、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三部分，其中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各地方的民间歌谣，其中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部分是贵族的宫廷正乐，其中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周天子和诸侯用以祭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[jì sì]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宗庙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舞曲歌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《诗经》的主要表现手法是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赋、比、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其中直陈其事叫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譬喻叫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先言它物以引起所咏之物叫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赋、比、兴与风、雅、颂合称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六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诗经"/>
          <p:cNvPicPr/>
          <p:nvPr/>
        </p:nvPicPr>
        <p:blipFill>
          <a:blip r:embed="rId1"/>
          <a:stretch/>
        </p:blipFill>
        <p:spPr>
          <a:xfrm>
            <a:off x="0" y="0"/>
            <a:ext cx="14731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08000" y="3733920"/>
            <a:ext cx="79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981000"/>
            <a:ext cx="8281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《诗经》六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、雅、颂、 赋、比、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《诗经》三大内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（民间歌谣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雅（宫廷正乐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颂（祭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歌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《诗经》表现手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赋（对事物直接陈述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兴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即起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联想。以其它东西引出所咏之物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27480" y="84240"/>
            <a:ext cx="35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小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》是我国最早的一部诗歌总集。西汉时被尊为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家经典著作。共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)(     )(  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大类，运用（ 　）（ 　）（　 ）等手法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填空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4200" y="155736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诗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220500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285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3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429000"/>
            <a:ext cx="6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82840" y="342900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429000"/>
            <a:ext cx="6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07664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076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005360"/>
            <a:ext cx="6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00960" y="549360"/>
            <a:ext cx="219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jū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黑体"/>
                <a:ea typeface="黑体"/>
              </a:rPr>
              <a:t>关雎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17200" y="3933720"/>
            <a:ext cx="22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《诗经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83160" y="3833640"/>
            <a:ext cx="27608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835920"/>
            <a:ext cx="86756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关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雎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jū jiū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在河之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窈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yǎo tiǎo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淑女，君子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好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hào qiú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参差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cēn cī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荇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xìn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cài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左右流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窈窕淑女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寤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w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mèi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之不得，寤寐思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悠哉悠哉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辗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zhǎn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反侧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差荇菜，左右采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窈窕淑女，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[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sè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友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差荇菜，左右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芼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mào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窈窕淑女，钟鼓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lè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5000" y="63360"/>
            <a:ext cx="41400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正字音、解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2421000"/>
            <a:ext cx="2900520" cy="302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参差：长短不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流：顺水流采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寤寐：醒和睡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服：思念、牵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悠：忧思的样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友：亲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芼：选择，采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乐之：使淑女快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115920"/>
            <a:ext cx="3384360" cy="131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窈窕：文静美好的样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淑女：贤良美好的女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好逑：好配偶， 意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喜欢追求为对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692280"/>
            <a:ext cx="810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雎鸠关关相对唱，双栖河中小岛上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真是我的好对象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短不齐荇菜鲜，顺着水流左右采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白天想她梦里爱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追求姑娘未如愿，醒来梦里意常牵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思悠悠情无限，翻来覆去难成眠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短不齐荇菜鲜，采了左边采右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弹琴奏瑟亲无间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短不齐荇菜鲜，拣了左边拣右边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静秀丽好姑娘，敲钟打鼓使她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7800" y="44280"/>
            <a:ext cx="7930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翻译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一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39243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关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雎鸠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河之洲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窈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淑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君子好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981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雎鸠：水鸟名，即鱼鹰。传说它们情意专一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6920" y="18464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（由关雎和鸣起兴，渲染气氛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5960" y="3141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（触景生情，由景到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581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的这位男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他听着鸠鸟和鸣的时候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一个姑娘在河边采荇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她左右采摘荇菜的美好姿态给了他一个难忘的印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爱慕之情油然而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1840" y="400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概括内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4005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发现心仪的姑娘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49:45Z</dcterms:created>
  <dc:creator>ert</dc:creator>
  <dc:description/>
  <dc:language>en-US</dc:language>
  <cp:lastModifiedBy>Sky123.Org</cp:lastModifiedBy>
  <dcterms:modified xsi:type="dcterms:W3CDTF">2012-11-27T12:16:00Z</dcterms:modified>
  <cp:revision>74</cp:revision>
  <dc:subject/>
  <dc:title>幻灯片 1</dc:title>
</cp:coreProperties>
</file>